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jpeg" ContentType="image/jpeg"/>
  <Override PartName="/ppt/media/image9.gif" ContentType="image/gif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08A7-891E-43A3-B9BF-94DEA11D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119-F51B-4630-83A7-C0FFAF8F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C86-4DBD-439E-8F2B-2718C51B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A0B-13EE-414B-B90C-51623E69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6FB4-77D1-4709-B82E-55CB293F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75BB-822B-441F-944F-6DC8A60B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DBF7-B9CD-4645-AB83-97A6873C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E5D4-81FA-439E-BE15-976744F1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A504-B5D0-45D1-B8DC-CCB6A22C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6F05-3352-4598-8EF4-5F437242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36DC-2DD3-4A48-A44C-A85FF3AF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60B-D702-4C9F-8FBF-7CF2CF14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4C58-8261-4891-91F0-E219D2E0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638D-9ABB-40B3-9156-DD162CCB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5F2E-E0B3-4A5D-84D0-D1A605F1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A380-AF7D-4AE5-B8F0-AB3AAECE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12A8-B0A2-4E41-9D46-213CF171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B4F77-2FBA-4EEA-ACBB-B870B231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DD841-C7A1-45EE-9A52-0FBEB982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F09AC-4FD7-4BC4-8618-36DE2251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4D22E-4166-4CA0-AA84-2D67A0DA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FBB86-436A-40B4-B481-29908A91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A18-1D56-4836-B774-911EB2FB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98B26-7448-4262-9F3C-C66869BD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044F7-ECBA-40A9-9730-8DE71D5A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875E-872B-4598-8686-6E5F31EE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A3425-E7C1-4263-897B-FEA0C498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01931-90AE-4A91-BE3B-09B33254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95E7E-0437-4A28-82AB-00F82669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22388-7EE0-4BD0-81D8-6BFE3767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19C1E-255A-4653-BED6-6ED5893D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4E13E-B673-4FD9-AEF5-6CA292EA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2BC56-4840-44C6-921F-804CB7BC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C8C-770A-4CDB-A66C-EC17B45F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D99F0-81D8-430D-BB9C-D4CA7D0A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3E620-F4E2-44F6-850C-BCD21874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2ABBD-A8E3-45F7-9A24-5DBA24F5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1ABE8-F214-473C-A906-9E534ACF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4D434-A443-4FAD-AC9E-E213A6C1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A97CC-4F63-4FC3-A2F3-AD66BD5C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84F9A-516E-4705-9EF2-C0FA8B14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78EB1-B2A9-461F-9A01-C9BD7D3E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2AA82-ADBC-48CA-83E2-1329D213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04E6D-50AE-4DC4-88BF-D215BBBE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7A9-E638-49C8-8F98-1CD5B76D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DEA3B-50DB-4750-8612-B20658E6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560F6-A6F5-41C1-83B1-C2439BD0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F1EE5-C277-4B53-9402-E0732641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D6808-C810-4D5A-AB90-CD91AFA2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E1A54-0945-4573-B542-81F4704C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692B7-5069-4DBA-9530-C98B316F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69063-7533-410F-8BD1-4C3FB4F6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8FF09-CFA3-42F2-8ABF-217CBAB3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4C526-2572-4C0F-86B8-A3B22205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F2D99-1632-41CF-807D-066DAAA3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273-E04F-49DE-917E-D4DB147F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E0C1A-B9DC-4F50-9258-0566A9F6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CB3-DA6C-4F9D-8AAF-700F1BFD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4AF-7BFA-4D65-B18A-44B9688A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ED4-600B-4B87-869C-97A62455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C6A8-0FD8-4008-B641-1A343FAC171F}" type="slidenum">
              <a:rPr b="0" lang="en-A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B4ED-BC1B-44D3-A11B-B02165154C15}" type="slidenum">
              <a:rPr b="0" lang="en-A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1F89-70F1-4099-B6B3-3A24CED0D72F}" type="slidenum">
              <a:rPr b="0" lang="en-A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4C86-7FD7-48FE-B7E3-86B6934CCFD9}" type="slidenum">
              <a:rPr b="0" lang="en-A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BE7F-91C6-4F5D-AE8E-61DF8ECE75F3}" type="slidenum">
              <a:rPr b="0" lang="en-A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My Documents\at_dawn.jpg"/>
          <p:cNvPicPr/>
          <p:nvPr/>
        </p:nvPicPr>
        <p:blipFill>
          <a:blip r:embed="rId1"/>
          <a:stretch/>
        </p:blipFill>
        <p:spPr>
          <a:xfrm>
            <a:off x="0" y="0"/>
            <a:ext cx="9182160" cy="693432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4" descr=""/>
          <p:cNvPicPr/>
          <p:nvPr/>
        </p:nvPicPr>
        <p:blipFill>
          <a:blip r:embed="rId2"/>
          <a:stretch/>
        </p:blipFill>
        <p:spPr>
          <a:xfrm>
            <a:off x="2286000" y="3170160"/>
            <a:ext cx="6864480" cy="3498840"/>
          </a:xfrm>
          <a:prstGeom prst="rect">
            <a:avLst/>
          </a:prstGeom>
          <a:ln w="0">
            <a:noFill/>
          </a:ln>
        </p:spPr>
      </p:pic>
      <p:grpSp>
        <p:nvGrpSpPr>
          <p:cNvPr id="222" name="Rectangle 7"/>
          <p:cNvGrpSpPr/>
          <p:nvPr/>
        </p:nvGrpSpPr>
        <p:grpSpPr>
          <a:xfrm>
            <a:off x="2700360" y="884160"/>
            <a:ext cx="5164200" cy="1517760"/>
            <a:chOff x="2700360" y="884160"/>
            <a:chExt cx="5164200" cy="1517760"/>
          </a:xfrm>
        </p:grpSpPr>
        <p:pic>
          <p:nvPicPr>
            <p:cNvPr id="223" name="Rectangle 7" descr=""/>
            <p:cNvPicPr/>
            <p:nvPr/>
          </p:nvPicPr>
          <p:blipFill>
            <a:blip r:embed="rId3"/>
            <a:stretch/>
          </p:blipFill>
          <p:spPr>
            <a:xfrm>
              <a:off x="2700360" y="884160"/>
              <a:ext cx="516420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786040" y="928800"/>
              <a:ext cx="500076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ffff"/>
                  </a:solidFill>
                  <a:latin typeface="Verdana"/>
                </a:rPr>
                <a:t>Reliable and valid se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Right Arrow 8"/>
          <p:cNvGrpSpPr/>
          <p:nvPr/>
        </p:nvGrpSpPr>
        <p:grpSpPr>
          <a:xfrm>
            <a:off x="55440" y="1816200"/>
            <a:ext cx="3022560" cy="1871640"/>
            <a:chOff x="55440" y="1816200"/>
            <a:chExt cx="3022560" cy="1871640"/>
          </a:xfrm>
        </p:grpSpPr>
        <p:pic>
          <p:nvPicPr>
            <p:cNvPr id="226" name="Right Arrow 8" descr=""/>
            <p:cNvPicPr/>
            <p:nvPr/>
          </p:nvPicPr>
          <p:blipFill>
            <a:blip r:embed="rId4"/>
            <a:stretch/>
          </p:blipFill>
          <p:spPr>
            <a:xfrm>
              <a:off x="55440" y="1816200"/>
              <a:ext cx="30225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42920" y="2286000"/>
              <a:ext cx="242892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ffff"/>
                  </a:solidFill>
                  <a:latin typeface="Verdana"/>
                </a:rPr>
                <a:t>September 2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766800"/>
            <a:ext cx="8115120" cy="14479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Behavioural Interviews or Targeted Selection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57120" y="2214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st behaviour predicts future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tical compe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ardised behavioural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ctical rather than hypothetical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 tell me a time when you were working with a co-worker who was performing below standard. How did you deal with this person. What was the eventual outcome of your interven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Oval 4"/>
          <p:cNvSpPr/>
          <p:nvPr/>
        </p:nvSpPr>
        <p:spPr>
          <a:xfrm>
            <a:off x="6019920" y="6019920"/>
            <a:ext cx="1600200" cy="761760"/>
          </a:xfrm>
          <a:prstGeom prst="ellipse">
            <a:avLst/>
          </a:prstGeom>
          <a:solidFill>
            <a:srgbClr val="9f29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imes New Roman"/>
              </a:rPr>
              <a:t>Vid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5"/>
          <p:cNvSpPr/>
          <p:nvPr/>
        </p:nvSpPr>
        <p:spPr>
          <a:xfrm>
            <a:off x="7243920" y="1785960"/>
            <a:ext cx="1828800" cy="228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4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5840" y="785880"/>
            <a:ext cx="7854840" cy="9079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ffff"/>
                </a:solidFill>
                <a:latin typeface="Verdana"/>
              </a:rPr>
              <a:t>Questioning skills</a:t>
            </a:r>
            <a:endParaRPr b="1" lang="en-US" sz="5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20268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Questioning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ide on the order of questions in adv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ce the interview and a mainta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with easier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selection cri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ve from general to the specif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e one topic (criteria) at a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no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77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7" dur="77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4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32040" y="714240"/>
            <a:ext cx="6997680" cy="765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Verdana"/>
              </a:rPr>
              <a:t>Interview techniques</a:t>
            </a:r>
            <a:endParaRPr b="1" lang="en-US" sz="4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052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 open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closed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 clear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ambiguous or leading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 relevant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 one question at a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5286240" y="1500120"/>
            <a:ext cx="2438640" cy="2514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14240" y="956880"/>
            <a:ext cx="7715520" cy="685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mmon interview proble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3280" y="2526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plan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 good selection                           techn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of organis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of fores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logical sequ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bility to select what is releva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5943600" y="1828800"/>
            <a:ext cx="2819520" cy="32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8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6848640" cy="5904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at distractions can occur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28760" y="245736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ide disturba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ntrating on what                                         to say rather than liste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ive attention                                             (we choose to not hear                                  something we don’t want 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developed listening and questioning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6095880" y="1143000"/>
            <a:ext cx="2286000" cy="335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320" y="1036440"/>
            <a:ext cx="7926120" cy="67788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lockers to effective listen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3280" y="20268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already know what you are going to say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’ll get my response ready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’m waiting to get my next question in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urry up, I don’t have much time.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’m not going to change my min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is what you should do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have no interest in what you are saying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impression am I I making here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seudo liste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77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4" dur="77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6" dur="77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072640" cy="71424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Non-verbal Communication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37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ceptions are cre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impressions throu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s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ths and belong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gu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o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ture and body mo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al expre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ye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4" descr="C:\My Documents\My Pictures\winslet.jpg"/>
          <p:cNvPicPr/>
          <p:nvPr/>
        </p:nvPicPr>
        <p:blipFill>
          <a:blip r:embed="rId1"/>
          <a:stretch/>
        </p:blipFill>
        <p:spPr>
          <a:xfrm>
            <a:off x="5911920" y="1523880"/>
            <a:ext cx="3079800" cy="4953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9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10508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terview Strategies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09280" y="21002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ss int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rank and friendly int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nspiratorial strate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weet and sour strate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ell and tell strate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ell and listen strate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6553080" y="3505320"/>
            <a:ext cx="2286000" cy="3047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9680" y="663480"/>
            <a:ext cx="8001000" cy="836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Recruitment &amp; Selection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Picture 3" descr="C:\My Documents\Accosted.gif"/>
          <p:cNvPicPr/>
          <p:nvPr/>
        </p:nvPicPr>
        <p:blipFill>
          <a:blip r:embed="rId1"/>
          <a:stretch/>
        </p:blipFill>
        <p:spPr>
          <a:xfrm>
            <a:off x="1782720" y="1571760"/>
            <a:ext cx="5576760" cy="485748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4"/>
          <p:cNvSpPr/>
          <p:nvPr/>
        </p:nvSpPr>
        <p:spPr>
          <a:xfrm>
            <a:off x="5715000" y="2514600"/>
            <a:ext cx="3048120" cy="1676520"/>
          </a:xfrm>
          <a:prstGeom prst="wedgeRoundRectCallout">
            <a:avLst>
              <a:gd name="adj1" fmla="val -87708"/>
              <a:gd name="adj2" fmla="val 10113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a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a and a good variety of questions  …. OK Bo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183520" cy="10508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The stress interview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hows applicants reactions under str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be suited to high pressure job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 valid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786200" y="19288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s skilled interview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alienate the applic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not relevant to many pos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give the company a poor im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183520" cy="693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structured interview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1424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en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me effici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sier applicant comparis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re professio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reas cove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00720" y="20289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lack flexi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 may domin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nt may be overwhelmed by ques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metimes hard to answ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183520" cy="693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unstructured interviewed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004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nt may be more relax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be tailored to the individ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sier to probe lea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00360" y="1981080"/>
            <a:ext cx="40719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rder to 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y miss important a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rder to compare applica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3880" y="713880"/>
            <a:ext cx="7543800" cy="80964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ffective interviewing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219320" y="16002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 the jo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 the personal attributes, experience, skills and qualifications need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 the resume or application 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 specific objecti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eate a good interview enviro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n the interview proced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ware of prejud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n’t make snap deci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llow up the inter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intain or enhance self-este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6477120" y="3962520"/>
            <a:ext cx="2209680" cy="2514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1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6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57160" y="735120"/>
            <a:ext cx="6786720" cy="83664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Verdana"/>
              </a:rPr>
              <a:t>Questioning Skills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0040" y="1642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sed ques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icit yes/no or brief factual answ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. do you have a drivers licens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n ended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 answers with more deta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how did you achieve these results? 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kind of responsibilities did you hav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did the incident occu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0440" y="928800"/>
            <a:ext cx="6640560" cy="83664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Verdana"/>
              </a:rPr>
              <a:t>Questioning skills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3280" y="1955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ing ques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a counter to a closed or general answer can be used to elicit further information, 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question – “ How did you react to the takeover?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answer – “Fine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ing question – “ how did the organisational changes affect your work responsi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05:35:58Z</dcterms:created>
  <dc:creator>John McDonald</dc:creator>
  <dc:description/>
  <dc:language>en-US</dc:language>
  <cp:lastModifiedBy>jmcdonald2</cp:lastModifiedBy>
  <dcterms:modified xsi:type="dcterms:W3CDTF">2010-08-20T07:31:25Z</dcterms:modified>
  <cp:revision>14</cp:revision>
  <dc:subject/>
  <dc:title>Interview Strategies</dc:title>
</cp:coreProperties>
</file>